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93E6-1801-4440-829A-A76494AC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ECE7-D447-48CF-B782-190BAA60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18A3-0785-4770-BF88-B691FA3C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482B-4458-4AE5-AF89-58EE4FDF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5CD8D-E4ED-49C8-95C1-6155320BB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E6486-EA66-4932-B810-4171A4AF0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961C-3DAF-4642-8C4D-025EC48FB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97EF3-29CF-45BB-9070-892AB264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D43A1-809A-48DE-B668-6C9B942AA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AF3C-135A-42E5-9E35-B390EFAB4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456C-FAF6-410E-A248-FB80C7A0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861F-99A3-4A91-A995-8663C6098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9DC1E-02A0-46E6-B386-8A89E930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FCE17-2B6B-4C48-9FA0-5D4FE880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5FBE-A891-4AEF-8875-A15AF6D44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B51EC-FC73-48EF-9977-3DA57279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76944-9E91-4FEE-B678-429C7278B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CDED-F899-4A6A-892B-947DD3E11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060F-0E95-48B0-B493-DDF86290D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8EE8-7899-4C21-A692-0F15D45B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E7CA-DF47-4CCA-B46F-107AA3BC4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4820-AEC7-4CA7-B641-FC3A4B78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E09E-A3D2-4BB1-9214-42CB3A6B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F630-95CE-40F1-8040-EC949DE21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E3F30-6B52-467B-8432-CF2DA87F1B9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D8C1-ED20-465E-BD58-9C5833CEF52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notepad-plus.sourceforge.net/commun/screenshots/scrsh_multiView.gif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Notepad Plus Plus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By Thomas Meharry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What does Notepad ++ stand for 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epad++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jec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i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ogram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cu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Syntax Highlighting &amp; Fold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Supported languages 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C</a:t>
            </a:r>
            <a:r>
              <a:rPr b="0" lang="en-AU" sz="2400" spc="-1" strike="noStrike" u="sng">
                <a:solidFill>
                  <a:srgbClr val="003366"/>
                </a:solidFill>
                <a:uFillTx/>
                <a:latin typeface="Arial"/>
                <a:hlinkClick r:id="rId1"/>
              </a:rPr>
              <a:t>C++</a:t>
            </a:r>
            <a:r>
              <a:rPr b="0" lang="en-A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X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h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Pyth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ub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HTM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Helpful Tip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Drag &amp; drop supporte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You can have multiview, split into 2 screens horizontally or verticall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an zoom in and ou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Chinese, Japanese, Korean, Arabic and Hebrew Windows are all supported with Notepad ++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one View Type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838080" y="2362320"/>
            <a:ext cx="7693200" cy="3724200"/>
            <a:chOff x="838080" y="2362320"/>
            <a:chExt cx="7693200" cy="3724200"/>
          </a:xfrm>
        </p:grpSpPr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838080" y="2362320"/>
              <a:ext cx="769320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 txBox="1"/>
            <p:nvPr/>
          </p:nvSpPr>
          <p:spPr>
            <a:xfrm>
              <a:off x="838080" y="2362320"/>
              <a:ext cx="7693200" cy="372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one View Type 1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838080" y="2362320"/>
            <a:ext cx="7693200" cy="3724200"/>
            <a:chOff x="838080" y="2362320"/>
            <a:chExt cx="7693200" cy="3724200"/>
          </a:xfrm>
        </p:grpSpPr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838080" y="2362320"/>
              <a:ext cx="7693200" cy="37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 txBox="1"/>
            <p:nvPr/>
          </p:nvSpPr>
          <p:spPr>
            <a:xfrm>
              <a:off x="838080" y="2362320"/>
              <a:ext cx="7693200" cy="372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Macr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cro’s can also be made with the macro butt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3366"/>
                </a:solidFill>
                <a:latin typeface="Arial"/>
              </a:rPr>
              <a:t>You can save several macros and edit their keyboard shortcuts for the next use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7T22:55:02Z</dcterms:created>
  <dc:creator>Thomas</dc:creator>
  <dc:description/>
  <dc:language>en-US</dc:language>
  <cp:lastModifiedBy>Thomas</cp:lastModifiedBy>
  <dcterms:modified xsi:type="dcterms:W3CDTF">2009-06-08T00:15:13Z</dcterms:modified>
  <cp:revision>6</cp:revision>
  <dc:subject/>
  <dc:title>Notepad Plus Plus</dc:title>
</cp:coreProperties>
</file>