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3321-3762-4A37-9043-FADF0592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9289-3C73-49D0-B758-0B80D8DF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04E3-AF49-45D2-BF4D-0771ECDE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0CCC-4457-43EC-ABAD-7DB9A9DB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C372-2282-41B4-8C96-C0A8F91D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5EFA-C85E-461B-9DEF-99238039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72F0-7CA1-4939-9A95-7B8BE300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A1F5-4559-4FA4-A92D-243F16D9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3DBB-2824-40B5-B967-07230F06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BD8F-1151-46BA-A3B2-F56AF19B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9F18-2B83-45FB-9893-9187A86D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C4A6-96BC-427B-BAD3-C80CD356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71B6-1AC8-46DA-B839-24A917C3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34B0-5DEF-49D4-B8AA-41DA90B6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7DC2-6D6E-4AC6-9F1C-5E1EBA20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209D-5022-49D1-8F1E-2E1784B0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800B-5107-4A78-9C5F-28FA5B92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3D36-6AFC-40C5-8C35-EB8AA012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B7EF-B0B0-4EAC-8F7F-74B1DB7C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6C11-89E7-485C-A6AE-CB5B9433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A05C-DE5E-45BD-ACDF-7113C01F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08C5-D601-44C2-9FBF-64D82A68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E7B3-AC92-4629-90DE-8009AC21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8D84-934E-40C7-BBE7-7864CEE0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3B57-0CF1-4788-BAE6-E9651CADE9B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2E8E-EF5F-448D-8413-01777DEC3A3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otepad-plus.sourceforge.net/commun/screenshots/scrsh_multiView.gif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pad Plus Plu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y Thomas Meharr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es Notepad ++ stand for 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epad+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j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gra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cu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yntax Highlighting &amp; Fol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Supported languages 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en-AU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++</a:t>
            </a: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X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h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yth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ub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pful T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g &amp; drop suppor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have multiview, split into 2 screens horizontally or vertical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zoom in and o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Chinese, Japanese, Korean, Arabic and Hebrew Windows are all supported with Notepad ++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one View Type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38080" y="2362320"/>
            <a:ext cx="7693200" cy="3724200"/>
            <a:chOff x="838080" y="2362320"/>
            <a:chExt cx="7693200" cy="372420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838080" y="2362320"/>
              <a:ext cx="7693200" cy="37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 txBox="1"/>
            <p:nvPr/>
          </p:nvSpPr>
          <p:spPr>
            <a:xfrm>
              <a:off x="838080" y="2362320"/>
              <a:ext cx="7693200" cy="372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one View Type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8080" y="2362320"/>
            <a:ext cx="7693200" cy="3724200"/>
            <a:chOff x="838080" y="2362320"/>
            <a:chExt cx="7693200" cy="372420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838080" y="2362320"/>
              <a:ext cx="7693200" cy="37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 txBox="1"/>
            <p:nvPr/>
          </p:nvSpPr>
          <p:spPr>
            <a:xfrm>
              <a:off x="838080" y="2362320"/>
              <a:ext cx="7693200" cy="372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cr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cro’s can also be made with the macro but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You can save several macros and edit their keyboard shortcuts for the next us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7T22:55:02Z</dcterms:created>
  <dc:creator>Thomas</dc:creator>
  <dc:description/>
  <dc:language>en-US</dc:language>
  <cp:lastModifiedBy>Thomas</cp:lastModifiedBy>
  <dcterms:modified xsi:type="dcterms:W3CDTF">2009-06-08T00:15:13Z</dcterms:modified>
  <cp:revision>6</cp:revision>
  <dc:subject/>
  <dc:title>Notepad Plus Plus</dc:title>
</cp:coreProperties>
</file>