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B318-114C-4327-A2C7-BD9352BC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02EB-B196-48E6-A1F6-C401CE68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5C12-AB55-4A79-99A3-90E99AE7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031F2-EB37-4295-B0AC-92636020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4001-DE05-4CCF-A497-B1BC8AD1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D9861-C61A-449A-85CC-7FF8678F8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D0970-E791-464C-8423-17AF621E1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8C7B-7A5D-4645-B30D-6E488190E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BDC2-C699-48FA-B30F-28A02AAF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83637-9FA7-4B9E-8C72-CA26ED70D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CD391-52FC-4445-8656-005FCDC0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AB58-1772-4F93-8E08-FCCD82CCA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207FA-9A37-4C15-A975-C1014E29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08E90-C2BB-463F-B2CD-F560A988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AB41-8DA6-4D2D-91C2-7219440E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7EBA2-D468-4659-906B-33EE5CED8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4B48-7AA9-44BE-B34B-BC353CA4C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FF3A-2D7D-453E-A4F4-0BD19B27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B296-98FA-4E2A-8969-DB1DD5B43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19F5-555D-4FF1-AC91-4F8330E3C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76C7-EDAD-4903-9F6F-11ED6CBC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58E3-BB8A-4957-AE72-C211A2F1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7EDF-EAAF-47F8-9616-C26BC12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FFEB-F589-42AF-86A1-A8F28348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0C68E-B0BA-4103-BC4D-12529A427C0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48688-9E41-4CB9-814C-246CE3868F3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otepad-plus.sourceforge.net/commun/screenshots/scrsh_multiView.gi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pad Plus Plu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Thomas Mehar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es Notepad ++ stand for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epad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ntax Highlighting &amp; Fol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upported languages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++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yth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pful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&amp; drop suppor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have multiview, split into 2 screens horizontally or vertic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zoom in and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hinese, Japanese, Korean, Arabic and Hebrew Windows are all supported with Notepad +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c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ro’s can also be made with the macro but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You can save several macros and edit their keyboard shortcuts for the next u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2:55:02Z</dcterms:created>
  <dc:creator>Thomas</dc:creator>
  <dc:description/>
  <dc:language>en-US</dc:language>
  <cp:lastModifiedBy>Thomas</cp:lastModifiedBy>
  <dcterms:modified xsi:type="dcterms:W3CDTF">2009-06-08T00:15:13Z</dcterms:modified>
  <cp:revision>6</cp:revision>
  <dc:subject/>
  <dc:title>Notepad Plus Plus</dc:title>
</cp:coreProperties>
</file>