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4380-D236-400D-AEA2-859E7B08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4B41-13A7-473A-A55C-6C73DB60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D4BA-162B-4D7E-ABEB-7DA0C97C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B34-F199-4A01-A10F-87B4F3DC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75F7-1EA2-4A72-8DC4-2C8687B1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F684-4154-46B7-AFF2-5AD942C4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9CAB-D835-44BC-9FB1-2374FAAE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AF6A-B8AC-4387-90ED-A548B9F4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E1E5-B689-4E58-842C-8A9E8778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2034-0421-4F89-A147-C37D5001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B9B2-790C-4D35-B485-D6278682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4D83-8D1D-4B1F-BF64-8F98A906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F489-55BD-4517-AB99-60552CFA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97BA-4F69-48C3-A5E8-441813E1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BF52-B0EB-41D4-8AD8-A0039443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6D70-3F22-4BC7-BE21-58CA5B6C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CD3C-285E-4BF4-83DD-B33BB5FA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8B4E-C8F6-47D8-8FE1-2A0F1348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F0FE-3CA2-46D7-8D6E-0C6772DC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614F-7D3E-402A-BC86-139DDB4F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7727-A7AD-4FD8-84E0-CB2C0F8B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F410-77C8-4E2F-BC9F-B20D0990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0A78-AD3E-4DA8-9340-29A7BECC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4A93-29A7-4B32-ABC1-305B6DF3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D009-5C01-45C6-BB9E-1B5EE9ED18B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C2A6-865E-4B68-9F92-7E646ADD3EC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otepad-plus.sourceforge.net/commun/screenshots/scrsh_multiView.gif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pad Plus Plu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y Thomas Meharr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es Notepad ++ stand for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epad+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j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gra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cu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yntax Highlighting &amp; Fol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Supported languages 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en-A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++</a:t>
            </a: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X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yth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ub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pful T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g &amp; drop suppor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have multiview, split into 2 screens horizontally or vertica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zoom in and o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Chinese, Japanese, Korean, Arabic and Hebrew Windows are all supported with Notepad ++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one View Type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38080" y="2362320"/>
            <a:ext cx="7693200" cy="3724200"/>
            <a:chOff x="838080" y="2362320"/>
            <a:chExt cx="7693200" cy="372420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838080" y="2362320"/>
              <a:ext cx="769320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 txBox="1"/>
            <p:nvPr/>
          </p:nvSpPr>
          <p:spPr>
            <a:xfrm>
              <a:off x="838080" y="2362320"/>
              <a:ext cx="7693200" cy="372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one View Type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8080" y="2362320"/>
            <a:ext cx="7693200" cy="3724200"/>
            <a:chOff x="838080" y="2362320"/>
            <a:chExt cx="7693200" cy="372420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838080" y="2362320"/>
              <a:ext cx="769320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 txBox="1"/>
            <p:nvPr/>
          </p:nvSpPr>
          <p:spPr>
            <a:xfrm>
              <a:off x="838080" y="2362320"/>
              <a:ext cx="7693200" cy="372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cr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cro’s can also be made with the macro but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You can save several macros and edit their keyboard shortcuts for the next us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7T22:55:02Z</dcterms:created>
  <dc:creator>Thomas</dc:creator>
  <dc:description/>
  <dc:language>en-US</dc:language>
  <cp:lastModifiedBy>Thomas</cp:lastModifiedBy>
  <dcterms:modified xsi:type="dcterms:W3CDTF">2009-06-08T00:15:13Z</dcterms:modified>
  <cp:revision>6</cp:revision>
  <dc:subject/>
  <dc:title>Notepad Plus Plus</dc:title>
</cp:coreProperties>
</file>