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E205-F868-4147-9FA4-4D63DCCF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CC27-3A46-4E4F-9112-D0073787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7554-58DF-446E-9F63-E617D5E00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4BBE-DA6A-4EB5-8B59-F17BA666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EC4-5F0D-489C-BD6C-C24D5539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F3A1-BDF1-4827-9F47-83AA4FAEB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623-888E-45D2-8DDB-5DD21C3D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A982-6071-46BD-9003-DC020BC5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8084-024C-4B20-B1DA-2A890DF0D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606B-7F68-4538-977E-D4B725A7C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BC0D-B327-44C1-872E-48906D608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2441-5142-4884-A0F7-680F743ED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6B753-3219-4C86-942D-8A77E68DD2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in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Ellio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5200" y="419040"/>
            <a:ext cx="8553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76520" y="299880"/>
            <a:ext cx="579096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edia en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most formats and many uncommon formats (3gp, dp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-and-drop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71640" y="457200"/>
            <a:ext cx="5400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ely reliable audio editting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lean user interface simple encoding system for .wav and .mp3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 a very limited amount of encoding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0440" y="533520"/>
            <a:ext cx="822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nco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converting or saving data into a specific form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ded within applications (windows media player, iTunes, VLC) /w cod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igital 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ery (.jpeg .png .gif .ra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(.mpg .avi .mov .flv .w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(.mp3 .aac .flac .wma .wa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ith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ding available on all OS platfr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 within editing software. Others stand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indows Media Enc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hotoshop CS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U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ony Veg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ud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 Media Enco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eneric of encoders for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video, graphics and audio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fairly comprehensive options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erlacing (interweaving of video used for analogue televis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bit rate( for both audio and vide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re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57360" y="477720"/>
            <a:ext cx="78292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66720" y="496800"/>
            <a:ext cx="78105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y Ve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best if not the best video editting series to d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some audio editting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omprehensive encoding sett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ide variety of savabl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djustable aspect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ingle pass or two-pass method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12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7:38:27Z</dcterms:created>
  <dc:creator>User</dc:creator>
  <dc:description/>
  <dc:language>en-US</dc:language>
  <cp:lastModifiedBy>User</cp:lastModifiedBy>
  <dcterms:modified xsi:type="dcterms:W3CDTF">2009-06-03T13:05:21Z</dcterms:modified>
  <cp:revision>41</cp:revision>
  <dc:subject/>
  <dc:title>Encoding in Windows</dc:title>
</cp:coreProperties>
</file>