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B4B-CF48-4D70-8F93-ACA7F1A7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5C7-E4FA-4167-8CB1-9A32F33B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2DD-26BF-470F-9E67-9E95DAE3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E80-3FA8-465F-884A-B74FC070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CB3-512F-4D1B-A6BB-54354E1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CBD-3AD9-4B62-A7BB-BD9E7E92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831-5538-4E95-9860-9FB0883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17A-4765-43DD-B33C-35B0CDB3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4EE-2ED0-4B2C-A2EB-2CC178FB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CF7-8BED-4F28-A2CF-E501AFD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AC9-04A4-40D7-B294-33A2B19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15B-DDAA-4FE5-8AAD-CC07F1E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BDB3-D57F-4C4D-AA95-357E6C296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in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Ellio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5200" y="419040"/>
            <a:ext cx="8553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76520" y="299880"/>
            <a:ext cx="579096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edia en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most formats and many uncommon formats (3gp, dp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-and-drop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71640" y="457200"/>
            <a:ext cx="5400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ely reliable audio editting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lean user interface simple encoding system for .wav and .mp3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 a very limited amount of encoding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0440" y="533520"/>
            <a:ext cx="822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nco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converting or saving data into a specific form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ded within applications (windows media player, iTunes, VLC) /w cod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igital 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ery (.jpeg .png .gif .ra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(.mpg .avi .mov .flv .w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(.mp3 .aac .flac .wma .wa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ith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ding available on all OS platfr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 within editing software. Others stand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indows Media Enc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hotoshop CS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U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ony Veg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ud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 Media Enco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eneric of encoders for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video, graphics and audio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fairly comprehensive options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erlacing (interweaving of video used for analogue televis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bit rate( for both audio and vide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re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57360" y="477720"/>
            <a:ext cx="78292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66720" y="496800"/>
            <a:ext cx="78105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y Ve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best if not the best video editting series to d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some audio editting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omprehensive encoding sett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ide variety of savabl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djustable aspect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ingle pass or two-pass method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12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7:38:27Z</dcterms:created>
  <dc:creator>User</dc:creator>
  <dc:description/>
  <dc:language>en-US</dc:language>
  <cp:lastModifiedBy>User</cp:lastModifiedBy>
  <dcterms:modified xsi:type="dcterms:W3CDTF">2009-06-03T13:05:21Z</dcterms:modified>
  <cp:revision>41</cp:revision>
  <dc:subject/>
  <dc:title>Encoding in Windows</dc:title>
</cp:coreProperties>
</file>