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B8E5-ACF4-4A17-A2E5-3647AEDC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A284-4C6F-4FB4-94E0-0DF547EAB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CBA0-0AF0-4093-AF23-C5828F00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630D-A834-4047-B2D6-6F19FB945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45CE-DFA1-4B30-A920-32656E65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A7C7-E0D9-42C4-AF63-09E1C89F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6386-AA4E-4804-9939-04B6CD305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A6F1-2C5E-4CD8-B174-FB6FFAB0D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0E8F-07CE-4BF6-A89D-72F92A9EF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D14B-CABD-4FE5-850E-290FC76C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E49C-7694-406F-B6E3-D55AFE6B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E7DF-42DE-42C7-BA69-FEF0E8D5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AD93-D8AF-4D7F-9CC6-A660163D08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coding in Windo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ennis Ellio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95200" y="419040"/>
            <a:ext cx="85536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676520" y="299880"/>
            <a:ext cx="579096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ultimedia enco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s most formats and many uncommon formats (3gp, dpg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rag-and-drop enco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1871640" y="457200"/>
            <a:ext cx="5400720" cy="582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udaci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remely reliable audio editting ap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Clean user interface simple encoding system for .wav and .mp3 fil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nfortunately a very limited amount of encoding op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60440" y="533520"/>
            <a:ext cx="822312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encod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cess of converting or saving data into a specific forma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coded within applications (windows media player, iTunes, VLC) /w code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coding Wh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digital  medi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agery (.jpeg .png .gif .raw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deo (.mpg .avi .mov .flv .wm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udio (.mp3 .aac .flac .wma .wa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coding with Wha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coding available on all OS platfr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me  within editing software. Others standal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indows includ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Windows Media Enco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Photoshop CS ser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U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Sony Vega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Audac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ndows Media Encod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Generic of encoders for wind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s video, graphics and audio enco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a fairly comprehensive options C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Interlacing (interweaving of video used for analogue televis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djustable bit rate( for both audio and vide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Adjustable resolu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657360" y="477720"/>
            <a:ext cx="7829280" cy="55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666720" y="496800"/>
            <a:ext cx="781056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ny Veg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of the best if not the best video editting series to d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some audio editting suppo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y Comprehensive encoding setting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wide variety of savable forma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adjustable aspect rat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single pass or two-pass method enco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853128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9T07:38:27Z</dcterms:created>
  <dc:creator>User</dc:creator>
  <dc:description/>
  <dc:language>en-US</dc:language>
  <cp:lastModifiedBy>User</cp:lastModifiedBy>
  <dcterms:modified xsi:type="dcterms:W3CDTF">2009-06-03T13:05:21Z</dcterms:modified>
  <cp:revision>41</cp:revision>
  <dc:subject/>
  <dc:title>Encoding in Windows</dc:title>
</cp:coreProperties>
</file>