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393CF-A431-48C6-A1D6-078FBE714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3CAE7-AE2E-46E3-AEB3-CDD94F91C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21BBD-455F-4206-A5F0-633758DC5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BC029-77FE-4AF4-83C3-B329BEB9D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34C6E-4822-42BC-9B2C-6FEAD936E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DCCD7-ED5A-4BFE-9811-403CFEA80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2A8AC-FFB0-422A-8D1C-9216478DE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D9A28-AF3D-4906-8871-25E740E51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25DFD-30AC-418B-ADE6-E81F07111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7F828-EF88-4DC2-9BE4-129C7D0AC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17694-5478-433B-A385-B4F161817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EB80B-086E-49AD-A2D3-4F9548CBE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6B526-4142-4C4A-AF79-C2A19967D5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ncoding in Windo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Dennis Elliot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295200" y="419040"/>
            <a:ext cx="855360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1676520" y="299880"/>
            <a:ext cx="5790960" cy="625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P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ultimedia encod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pports most formats and many uncommon formats (3gp, dpg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rag-and-drop enco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1871640" y="457200"/>
            <a:ext cx="5400720" cy="582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udac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remely reliable audio editting applic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ery Clean user interface simple encoding system for .wav and .mp3 fil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nfortunately a very limited amount of encoding op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460440" y="533520"/>
            <a:ext cx="82231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encoding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cess of converting or saving data into a specific forma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coded within applications (windows media player, iTunes, VLC) /w codec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ncoding What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digital  med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agery (.jpeg .png .gif .raw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ideo (.mpg .avi .mov .flv .wmv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udio (.mp3 .aac .flac .wma .wav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ncoding with What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coding available on all OS platfr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me  within editing software. Others standalo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indows includ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Windows Media Encod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Photoshop CS ser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SUP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Sony Vega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Audac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indows Media Encod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Generic of encoders for window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pports video, graphics and audio enco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a fairly comprehensive options C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lud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Interlacing (interweaving of video used for analogue television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adjustable bit rate( for both audio and vide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Adjustable resolu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657360" y="477720"/>
            <a:ext cx="7829280" cy="555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666720" y="496800"/>
            <a:ext cx="7810560" cy="55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ny Veg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of the best if not the best video editting series to dat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some audio editting suppor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ery Comprehensive encoding setting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wide variety of savable forma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adjustable aspect rati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single pass or two-pass method enco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7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8531280" cy="63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9T07:38:27Z</dcterms:created>
  <dc:creator>User</dc:creator>
  <dc:description/>
  <dc:language>en-US</dc:language>
  <cp:lastModifiedBy>User</cp:lastModifiedBy>
  <dcterms:modified xsi:type="dcterms:W3CDTF">2009-06-03T13:05:21Z</dcterms:modified>
  <cp:revision>41</cp:revision>
  <dc:subject/>
  <dc:title>Encoding in Windows</dc:title>
</cp:coreProperties>
</file>